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6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2B262-A29E-4B2B-AE1D-E259A3954CB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B5E1F-6A87-41EB-8F6C-DC1BC07EAFCA}" type="slidenum"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5E71-5B30-42F1-8524-BE3D023E0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C9F1-C1DA-4C80-9F61-3FA39569D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0D66-3F23-4076-8AEB-A5646EEF4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85C6-6CFF-4124-86AC-245C9EA11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DFB45-14C5-4A6F-B263-C7CA9466B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CE4DC-6F03-4FB9-851B-4ADEB61D7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FA3E4-26D6-4121-98F7-64C47752A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0DC8B-DC1D-4488-B378-B269C642E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644EF-BB34-4721-9A44-27D20087B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75461-B0DF-4B38-8A31-1F08542C1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4F21E-2F0E-4835-B217-C1857EB1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0110-0AAE-4F28-A906-9903C3911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49F3C-42C5-4E2F-8363-82F3A962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4EA10-2CCC-4B92-8A89-23B07BE2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A4896-712B-4D3F-BB20-EA8CCEC91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F34C8-4741-4EA1-9EA6-83EB7097D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8F8DE-1078-4C38-811D-AD0E62E45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E30CC6-E55D-4748-8FDF-E4C0CA198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F595C7-CDD1-466F-801E-B1B8D7A33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E7AC9C-60A9-443E-BC3D-7B989E6FA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B50716-3586-4820-BBA6-BE3EF7CE0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D30CBF-2F42-45CD-8C90-8A7D6213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824C-EA3C-463C-8020-B1276EE60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F94728-84F3-4A37-9911-B955506F3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570BB3-D278-43EA-A524-82348B0A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367B25-F1EB-49CC-AC0A-A8E452AE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8EDF0E-4CDD-4A3F-8F2B-4F77242C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4A59BF-A808-45FF-A78F-B2D96D3A8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2888C3-D33F-492B-A787-9342D4471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8F985D-06EF-4513-B778-6CFEC6B4B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34E68B-06D9-4AE0-A53C-203DCA762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185287-B71D-4C4B-9CD5-431117DB1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3E6603-214C-4748-A5A6-8170624DE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F0FB-0B1F-4DAC-8784-8D369A0AD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31FFEA-FA0D-4FA8-9256-E56F784FE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CB184C-5A45-4D29-8DCA-441FD3547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BBFC31-D083-4261-BF88-5F7854E27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9B544B-19B3-4D16-A3B9-FF9983CF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3B049A-8EA5-47F2-89AB-88FA020C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09C70B-E89F-462C-8126-9DB95EBA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94A701-A31F-4425-B522-9D3EE763D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43D3DA-6926-4FD6-9990-9CD960FD2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2F5ACB-D400-4BC3-AC71-3605B2F51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45D0C8-067D-4740-86AE-82B996003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23C0-7C81-4122-883D-AE7983123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102BE9-B79D-4C82-AC4D-B0EEB5BEF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DFAC46-51DB-4E4F-A5AC-0AE6A09D3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58E7DF-05CC-477F-A8F5-24FA3FB67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5D14B8-194E-498A-9AC5-F6B508DC1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8D9AD4-060F-4CEF-96E9-29A368C53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6396A5-CB91-4721-9B3C-AC83B698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3A5CB9-970D-43EC-8AB2-C252196C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8FB4AF-2EB0-4318-A31A-23DC322B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C5F160-9144-493F-BA04-0CA65C34E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975742-B196-4DCD-B64F-830F6F92E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B104-A642-4F03-9B91-32E91CFB9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22E4ED-80FA-4B14-8914-3A8299129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36FEB-E617-4075-A74E-C9B09D6B4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A33C5C-6C41-4B3B-BED9-87251605D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6DC20-B387-42B6-9B65-103533E35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BD00F-C275-4758-8C5A-680244C55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616E1-3A74-4002-8450-7B12BC667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72A8E-10CE-4569-B388-F6E804145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9F039-4BDB-4744-BE2E-01D5C046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31E39-1020-44B6-ABCC-41963059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93150-CC9F-498A-B9C3-A6E07A28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F630-F036-4617-9377-DDE7A20F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AA027-FAF2-4893-BB3D-C28DC6637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71CC8-5D5A-4E47-AF0C-B5FC49CDE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36788E-3D65-466F-9540-57D2B0EED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62F84C-0929-416E-B9DD-74502E370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6E1A8A-77E6-44F2-8F24-1D59EB91E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80B9FF-7568-4F46-B810-FD64254DE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B32726-B4D2-4460-A341-401961DE7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1F0FD1-E506-462F-AA65-5D5818486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B7DE9F-B95F-4756-935A-F1278785C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01E3DD-F1B9-43A1-9591-D4BE8391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31EB-5B2B-4982-9D3F-C34F31DA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E30695-7286-4451-B795-BAD7017B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1EF09D-AD6B-4555-918B-4049F9BC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B2C201-D865-4CD9-BAE7-E16A54D0C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C2D82E-2085-406B-8943-2B3D9702E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177A94-7AC5-4ADC-AB0D-886CC0F91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0665CB-FBA5-4264-A1EB-6F15F2ABF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9C525F-7E53-4053-B7B1-2B0670C1A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B320AE-AB4D-48BF-93CB-DD2CD0ED7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04B6E2-E4D6-4F2F-8E7C-884FB9B00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D3C773-FB50-450A-973F-5A1F96FAA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C47C-F87F-4515-A2C8-7042176C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26CFB9-7E26-43AF-983C-5976DAC54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837F3E-3DE9-46D5-A283-2E9F5F7A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E5758B-1C94-43F1-8358-2FD39608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92699E-42E1-44F8-8765-E35F6AD5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23B82A-87AD-4917-9FEF-A609EA132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64109E-3BEC-4E7E-9CE9-3CA1312B2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264E99-F1A9-4311-BB46-C9F6B2726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4F0DD-F289-4905-A2CA-FABD4B5A5BAE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31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71B3B-9CF8-4A64-A0D0-8D9D0B9A7645}" type="slidenum"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CE61D-0028-4FDF-84A0-2EB88FFF5503}" type="datetime">
              <a:rPr b="0" lang="fr-FR" sz="21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4085A-BB4F-4EE1-AA81-8C54D71E3E05}" type="slidenum">
              <a:rPr b="1" lang="fr-FR" sz="16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487BD-B7E4-48D4-815B-1AC9FD7B5010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31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C828D-FEBB-4236-A257-580CB7F8CCE0}" type="slidenum">
              <a:rPr b="1" lang="fr-FR" sz="2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E9201-AA34-4CE1-B67D-BF7C978F4328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31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858F5-350C-470D-B0FF-49923F98668E}" type="slidenum"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8D57B-3152-4673-B76D-0A37D0F088E2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31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F4ED7-6434-4813-8415-69F28D734124}" type="slidenum"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C8BC7-8350-49D4-A5E6-F6E8BEFADA2B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31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8EF40-7DFC-4C2B-B4A1-A476264BBC83}" type="slidenum">
              <a:rPr b="1" lang="fr-FR" sz="16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1194A-FE21-425E-9AA4-7110A21097CF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31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8416-A8F4-48A6-9C1E-55F7F1638AEC}" type="slidenum">
              <a:rPr b="1" lang="fr-FR" sz="2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19894-541F-43EB-A78D-3E2AEEA04CD0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31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604AC-39F8-41F2-9017-B9192DE4E14A}" type="slidenum"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Recto.pdf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Fiche%20de%20prise%20en%20charge%20Hospitali&#232;re.doc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7000920" cy="9000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558bb8"/>
                </a:solidFill>
                <a:latin typeface="comic"/>
              </a:rPr>
              <a:t>PRÉSENTATION MSU/LB</a:t>
            </a:r>
            <a:r>
              <a:rPr b="0" lang="fr-FR" sz="4100" spc="-1" strike="noStrike">
                <a:solidFill>
                  <a:srgbClr val="558bb8"/>
                </a:solidFill>
                <a:latin typeface="Tw Cen MT"/>
              </a:rPr>
              <a:t> </a:t>
            </a:r>
            <a:endParaRPr b="0" lang="en-US" sz="41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899640" y="1915920"/>
            <a:ext cx="7272360" cy="8650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62626"/>
                </a:solidFill>
                <a:latin typeface="Tw Cen MT"/>
              </a:rPr>
              <a:t>Atelier sur l’Assurance Maladie Universelle</a:t>
            </a:r>
            <a:br>
              <a:rPr sz="800"/>
            </a:b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262626"/>
                </a:solidFill>
                <a:latin typeface="Tw Cen MT"/>
              </a:rPr>
              <a:t>                                             </a:t>
            </a:r>
            <a:endParaRPr b="0" lang="en-US" sz="800" spc="-1" strike="noStrike">
              <a:solidFill>
                <a:srgbClr val="ffffff"/>
              </a:solidFill>
              <a:latin typeface="Tw Cen MT"/>
            </a:endParaRPr>
          </a:p>
          <a:p>
            <a:pPr indent="0" algn="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4" name="Rectangle 7"/>
          <p:cNvSpPr/>
          <p:nvPr/>
        </p:nvSpPr>
        <p:spPr>
          <a:xfrm>
            <a:off x="76320" y="6068880"/>
            <a:ext cx="2057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AAA95-70D8-486A-AA8D-4FC66ABDCB4C}" type="datetime">
              <a:rPr b="0" lang="fr-FR" sz="2100" spc="-1" strike="noStrike">
                <a:solidFill>
                  <a:srgbClr val="ffffff"/>
                </a:solidFill>
                <a:latin typeface="Arial"/>
                <a:ea typeface="Arial"/>
              </a:rPr>
              <a:t>31/07/26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9"/>
          <p:cNvSpPr/>
          <p:nvPr/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69765-967A-44F5-81C8-30E462885E16}" type="slidenum">
              <a:rPr b="1" lang="fr-FR" sz="1600" spc="-1" strike="noStrike">
                <a:solidFill>
                  <a:srgbClr val="ebddc3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8" descr=""/>
          <p:cNvPicPr/>
          <p:nvPr/>
        </p:nvPicPr>
        <p:blipFill>
          <a:blip r:embed="rId1"/>
          <a:stretch/>
        </p:blipFill>
        <p:spPr>
          <a:xfrm>
            <a:off x="7143840" y="142920"/>
            <a:ext cx="1571400" cy="1071360"/>
          </a:xfrm>
          <a:prstGeom prst="rect">
            <a:avLst/>
          </a:prstGeom>
          <a:ln w="0">
            <a:noFill/>
          </a:ln>
        </p:spPr>
      </p:pic>
      <p:sp>
        <p:nvSpPr>
          <p:cNvPr id="377" name="ZoneTexte 1"/>
          <p:cNvSpPr/>
          <p:nvPr/>
        </p:nvSpPr>
        <p:spPr>
          <a:xfrm>
            <a:off x="539640" y="3933720"/>
            <a:ext cx="79930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262626"/>
                </a:solidFill>
                <a:latin typeface="Tw Cen MT"/>
              </a:rPr>
              <a:t>Expérience de la Mutuelle de Santé Urbaine Laafi Baoré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900" spc="-1" strike="noStrike">
                <a:solidFill>
                  <a:srgbClr val="262626"/>
                </a:solidFill>
                <a:latin typeface="Tw Cen MT"/>
              </a:rPr>
              <a:t>                                                                                             </a:t>
            </a:r>
            <a:r>
              <a:rPr b="1" i="1" lang="fr-FR" sz="1900" spc="-1" strike="noStrike">
                <a:solidFill>
                  <a:srgbClr val="262626"/>
                </a:solidFill>
                <a:latin typeface="Tw Cen MT"/>
              </a:rPr>
              <a:t>Par Marcel ZAN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100" spc="-1" strike="noStrike">
                <a:solidFill>
                  <a:srgbClr val="262626"/>
                </a:solidFill>
                <a:latin typeface="Tw Cen MT"/>
              </a:rPr>
              <a:t>                                                                                                                                                                    </a:t>
            </a:r>
            <a:r>
              <a:rPr b="1" i="1" lang="fr-FR" sz="2000" spc="-1" strike="noStrike" u="sng">
                <a:solidFill>
                  <a:srgbClr val="262626"/>
                </a:solidFill>
                <a:uFillTx/>
                <a:latin typeface="Tw Cen MT"/>
              </a:rPr>
              <a:t>Président du 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8" descr=""/>
          <p:cNvPicPr/>
          <p:nvPr/>
        </p:nvPicPr>
        <p:blipFill>
          <a:blip r:embed="rId1"/>
          <a:stretch/>
        </p:blipFill>
        <p:spPr>
          <a:xfrm>
            <a:off x="7429680" y="142920"/>
            <a:ext cx="1571400" cy="107136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7696080" cy="736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775f55"/>
                </a:solidFill>
                <a:latin typeface="Tw Cen MT"/>
              </a:rPr>
              <a:t>III. Prestations prises en charge suite 3</a:t>
            </a:r>
            <a:endParaRPr b="0" lang="en-US" sz="35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0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E57A4-7249-4B6D-B830-EC829A9E3F6E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31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93553-B3F2-4122-8A7F-5FD3A1E1025B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356760" y="1571400"/>
            <a:ext cx="8425080" cy="4786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Tw Cen MT"/>
              </a:rPr>
              <a:t>Dans les CMA, CMU et CHU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consultations généralistes et spécialisée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analyses de labo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soins dentaires sans prothèses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soins ophtalmologiques sans lunette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opérations chirurgicale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hospitalisations chirurgicales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hospitalisations médicales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’accouchement dystocique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frais d’hôtellerie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8" descr=""/>
          <p:cNvPicPr/>
          <p:nvPr/>
        </p:nvPicPr>
        <p:blipFill>
          <a:blip r:embed="rId1"/>
          <a:stretch/>
        </p:blipFill>
        <p:spPr>
          <a:xfrm>
            <a:off x="7500960" y="142920"/>
            <a:ext cx="1571760" cy="107136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8153280" cy="7142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775f55"/>
                </a:solidFill>
                <a:latin typeface="Tw Cen MT"/>
              </a:rPr>
              <a:t>IV. Statistiques d’évolution de la MSU/LB </a:t>
            </a:r>
            <a:endParaRPr b="0" lang="en-US" sz="35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214200" y="1214280"/>
          <a:ext cx="8715600" cy="5643720"/>
        </p:xfrm>
        <a:graphic>
          <a:graphicData uri="http://schemas.openxmlformats.org/drawingml/2006/table">
            <a:tbl>
              <a:tblPr/>
              <a:tblGrid>
                <a:gridCol w="1452600"/>
                <a:gridCol w="1452600"/>
                <a:gridCol w="1452600"/>
                <a:gridCol w="1452600"/>
                <a:gridCol w="1452600"/>
                <a:gridCol w="14526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31-12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31-12-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31-12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31-12-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31-12-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dhér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0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5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énéficiai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8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0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4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tisation recouvr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 016 9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 957 1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0 903 7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 123 1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0 752 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Prise en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 990 9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 785 5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 421 7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 847 3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0 027 1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br de ca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1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x de fréquen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3.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4,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3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6.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4.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x de recouvr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5.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9.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5.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6.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0.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x de sinistrali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8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93.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</a:tbl>
          </a:graphicData>
        </a:graphic>
      </p:graphicFrame>
      <p:sp>
        <p:nvSpPr>
          <p:cNvPr id="426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E0B2A-E450-4C60-A7EE-168572FAC311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8" descr=""/>
          <p:cNvPicPr/>
          <p:nvPr/>
        </p:nvPicPr>
        <p:blipFill>
          <a:blip r:embed="rId1"/>
          <a:stretch/>
        </p:blipFill>
        <p:spPr>
          <a:xfrm>
            <a:off x="7429680" y="0"/>
            <a:ext cx="1571400" cy="107172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14200" y="356760"/>
            <a:ext cx="7839360" cy="785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V. Difficultés rencontrées et recommandations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0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4D00-B465-4391-B1E9-3863CEB69D22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31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Espace réservé du numéro de diapositiv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47E91-89BC-4595-A36B-85AB6460BF94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24000" y="1557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3000"/>
          </a:bodyPr>
          <a:p>
            <a:pPr marL="320400" indent="-32040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Difficultés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Surconsommation et surprescription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 non respect de la convention par les centres de santé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Transmission tardive des factures dont accumulation de factures parfois d’un an et même plus pour certain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 manque de collaboration et le mauvais traitement de certains agents de santé vis-à-vis des mutualiste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a forte demande par les bénéficiaires des produits de spécialités (ceci entraine le désintérêt de la population et la désinscription des membres)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8" descr=""/>
          <p:cNvPicPr/>
          <p:nvPr/>
        </p:nvPicPr>
        <p:blipFill>
          <a:blip r:embed="rId1"/>
          <a:stretch/>
        </p:blipFill>
        <p:spPr>
          <a:xfrm>
            <a:off x="7429680" y="0"/>
            <a:ext cx="1571400" cy="107172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14200" y="356760"/>
            <a:ext cx="7839360" cy="785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V. Difficultés rencontrées et recommandations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5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43A93-633C-4166-A757-A6FF6179C487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31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Espace réservé du numéro de diapositiv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F3B6E-0667-4931-951E-B915E1001408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24000" y="1557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89000"/>
          </a:bodyPr>
          <a:p>
            <a:pPr marL="306360" indent="-30636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Recommandatio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13080" indent="-26244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Mettre des médecins conseil à la disposition des mutuelle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13080" indent="-26244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Appuyer les mutuelles dans la sensibilisation des agents de santé,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13080" indent="-26244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Enseigner des modules sur l’assurance maladie et les mutuelles de santé des écoles de formation de santé,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13080" indent="-26244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Travailler à la disponibilité des MEG et sensibiliser la population à leur consommation,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13080" indent="-26244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Renforcer les capacités des responsables et gestionnaires des mutuelles de santé sur le PCMS de l’UEMOA, la loi sur la mutualité sociale du Burkina et l’AMU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13080" indent="-26244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9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FE94C-DD73-430C-83B9-FF4F1023ADC1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31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Espace réservé du numéro de diapositiv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D7478-A8DD-42C8-B02C-34B17AFC7876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marL="344520" indent="-344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marL="344520" indent="-34452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900" spc="-1" strike="noStrike">
                <a:solidFill>
                  <a:srgbClr val="009900"/>
                </a:solidFill>
                <a:latin typeface="comic"/>
              </a:rPr>
              <a:t>Merci de votre aimable  attention!</a:t>
            </a:r>
            <a:endParaRPr b="0" lang="en-US" sz="3900" spc="-1" strike="noStrike">
              <a:solidFill>
                <a:srgbClr val="000000"/>
              </a:solidFill>
              <a:latin typeface="Tw Cen MT"/>
            </a:endParaRPr>
          </a:p>
          <a:p>
            <a:pPr marL="344520" indent="-34452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900" spc="-1" strike="noStrike">
                <a:solidFill>
                  <a:srgbClr val="c00000"/>
                </a:solidFill>
                <a:latin typeface="comic"/>
              </a:rPr>
              <a:t>Laafi Baoré, S’unir aujourd'hui pour garantir demain.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44520" indent="-34452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900" spc="-1" strike="noStrike">
                <a:solidFill>
                  <a:srgbClr val="c00000"/>
                </a:solidFill>
                <a:latin typeface="comic"/>
              </a:rPr>
              <a:t>Contacts: 25 36 15 25/71 80 07 97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44520" indent="-3445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900" spc="-1" strike="noStrike">
                <a:solidFill>
                  <a:srgbClr val="c00000"/>
                </a:solidFill>
                <a:latin typeface="Tw Cen MT"/>
              </a:rPr>
              <a:t>Mail: msu.laafibaore@yahoo.fr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42" name="Picture 8" descr=""/>
          <p:cNvPicPr/>
          <p:nvPr/>
        </p:nvPicPr>
        <p:blipFill>
          <a:blip r:embed="rId1"/>
          <a:stretch/>
        </p:blipFill>
        <p:spPr>
          <a:xfrm>
            <a:off x="7572240" y="214200"/>
            <a:ext cx="157176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62120" y="333360"/>
            <a:ext cx="7696080" cy="7920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 </a:t>
            </a: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PLAN DE PRESENTATION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9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6C9DA-9D75-49D1-821F-A06FE5E7FDD8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31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A95D6-686F-4272-8DFC-47135577D3B0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395280" y="2133360"/>
            <a:ext cx="8424720" cy="2663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9000"/>
          </a:bodyPr>
          <a:p>
            <a:pPr marL="565920" indent="-565920">
              <a:spcBef>
                <a:spcPts val="751"/>
              </a:spcBef>
              <a:buClr>
                <a:srgbClr val="dd8047"/>
              </a:buClr>
              <a:buSzPct val="6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Naissance de la MSU-LB </a:t>
            </a: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65920" indent="-565920">
              <a:spcBef>
                <a:spcPts val="751"/>
              </a:spcBef>
              <a:buClr>
                <a:srgbClr val="dd8047"/>
              </a:buClr>
              <a:buSzPct val="6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Conditions d’adhésion et de prise en charg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65920" indent="-565920">
              <a:spcBef>
                <a:spcPts val="751"/>
              </a:spcBef>
              <a:buClr>
                <a:srgbClr val="dd8047"/>
              </a:buClr>
              <a:buSzPct val="6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Prestations prises offert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65920" indent="-565920">
              <a:spcBef>
                <a:spcPts val="751"/>
              </a:spcBef>
              <a:buClr>
                <a:srgbClr val="dd8047"/>
              </a:buClr>
              <a:buSzPct val="6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Statistiques sur l’évolution de la MSU-LB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65920" indent="-565920">
              <a:spcBef>
                <a:spcPts val="751"/>
              </a:spcBef>
              <a:buClr>
                <a:srgbClr val="dd8047"/>
              </a:buClr>
              <a:buSzPct val="6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Difficultés rencontrées et recommandatio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65920" indent="-5659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65920" indent="-5659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2" name="Picture 8" descr=""/>
          <p:cNvPicPr/>
          <p:nvPr/>
        </p:nvPicPr>
        <p:blipFill>
          <a:blip r:embed="rId1"/>
          <a:stretch/>
        </p:blipFill>
        <p:spPr>
          <a:xfrm>
            <a:off x="7358040" y="214200"/>
            <a:ext cx="1571760" cy="1071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7696080" cy="7239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I. NAISSANCE DE LA MSU.LB  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4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80692-71BA-40C5-9428-7F48FA737471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31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Espace réservé du numéro de diapositiv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E54FF-14CA-4ED2-BB11-2E739D1DA6ED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57120" y="1285560"/>
            <a:ext cx="8353440" cy="46083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89000"/>
          </a:bodyPr>
          <a:p>
            <a:pPr marL="306360" indent="-306360" algn="just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w Cen MT"/>
              </a:rPr>
              <a:t>Née de la volonté d’un certain nombre d’organisation de la société civile et d’entreprises (08),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360" indent="-306360" algn="just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w Cen MT"/>
              </a:rPr>
              <a:t>Réalisée son étude de faisabilité sous la houlette du RAMS.BF,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360" indent="-306360" algn="just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w Cen MT"/>
              </a:rPr>
              <a:t>Tenue de son AGC le 30 juin 2006,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360" indent="-306360" algn="just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w Cen MT"/>
              </a:rPr>
              <a:t>Le lancement officiel 28 février 2007 au CMA du 30 sous la présidence du MTSS et le parrainage du Maire de la Commune de Ouagadougou de l’époqu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360" indent="-306360" algn="just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Début des prestations en 1</a:t>
            </a:r>
            <a:r>
              <a:rPr b="0" lang="fr-FR" sz="2900" spc="-1" strike="noStrike" baseline="30000">
                <a:solidFill>
                  <a:srgbClr val="000000"/>
                </a:solidFill>
                <a:latin typeface="Tw Cen MT"/>
              </a:rPr>
              <a:t>er</a:t>
            </a: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 avril 2007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360" indent="-306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7" name="Picture 8" descr=""/>
          <p:cNvPicPr/>
          <p:nvPr/>
        </p:nvPicPr>
        <p:blipFill>
          <a:blip r:embed="rId1"/>
          <a:stretch/>
        </p:blipFill>
        <p:spPr>
          <a:xfrm>
            <a:off x="7143840" y="142920"/>
            <a:ext cx="157140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85880" y="428760"/>
            <a:ext cx="7696080" cy="72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I. NAISSANCE DE LA MSU.LB (suite)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9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95D3A-9FED-46FE-84C6-7F3FA425316C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31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42081-C138-48E1-B2F6-DC4C117E1DAC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57120" y="1714680"/>
            <a:ext cx="8175600" cy="46656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4000"/>
          </a:bodyPr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Le public cible de départ était constitué des membres des organisations mères de la mutuelle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Chaque organisation a constitué une section,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Au sein de chaque section il y a un bureau de la MSU-LB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Ce bureau est chargé de l’animation, l’enregistrement de nouveaux adhérents, de collecte des cotisations et de la gestion de la section,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Une section (inter pro) s’est créée qui regroupe des personnes n’appartenant à aucune de ces organisations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Toutes les adhésions et cotisations sont reversées à l’unité gestion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w Cen MT"/>
              </a:rPr>
              <a:t>   </a:t>
            </a:r>
            <a:endParaRPr b="0" lang="en-US" sz="9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2" name="Picture 8" descr=""/>
          <p:cNvPicPr/>
          <p:nvPr/>
        </p:nvPicPr>
        <p:blipFill>
          <a:blip r:embed="rId1"/>
          <a:stretch/>
        </p:blipFill>
        <p:spPr>
          <a:xfrm>
            <a:off x="7143840" y="142920"/>
            <a:ext cx="157140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56760" y="213840"/>
            <a:ext cx="7696440" cy="1079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II. Conditions de d’adhésion et de prise en charge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4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55EC4-908C-4C9F-8056-3D3A02004F20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31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73598-C035-4774-9117-AF3D3A40300F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68000" y="1988640"/>
            <a:ext cx="8351640" cy="4319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3000"/>
          </a:bodyPr>
          <a:p>
            <a:pPr marL="320400" indent="-32040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Tw Cen MT"/>
              </a:rPr>
              <a:t>Conditions d’adhésion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Paiement de frais d’adhésion de 2 500 frs pour une famille de 5 personnes (</a:t>
            </a:r>
            <a:r>
              <a:rPr b="0" lang="fr-FR" sz="2700" spc="-1" strike="noStrike">
                <a:solidFill>
                  <a:srgbClr val="009900"/>
                </a:solidFill>
                <a:latin typeface="Tw Cen MT"/>
              </a:rPr>
              <a:t>adhérent + conjoint + enfants à charge de moins de 18 ans</a:t>
            </a: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Versement de cotisation de 12 000 frs par personne et par an.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Verser au moins 6 mois de cotisation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Apporter une copie simple d’extrait de naissance ou CNIB ou passeport et une photo de chaque inscrit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7" name="Picture 8" descr=""/>
          <p:cNvPicPr/>
          <p:nvPr/>
        </p:nvPicPr>
        <p:blipFill>
          <a:blip r:embed="rId1"/>
          <a:stretch/>
        </p:blipFill>
        <p:spPr>
          <a:xfrm>
            <a:off x="7572240" y="142920"/>
            <a:ext cx="135756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8" descr=""/>
          <p:cNvPicPr/>
          <p:nvPr/>
        </p:nvPicPr>
        <p:blipFill>
          <a:blip r:embed="rId1"/>
          <a:stretch/>
        </p:blipFill>
        <p:spPr>
          <a:xfrm>
            <a:off x="7429680" y="214200"/>
            <a:ext cx="1571400" cy="107172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28760" y="404280"/>
            <a:ext cx="8029440" cy="863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II. Conditions de d’adhésion et de prise en charge suite1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0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40816-2DD5-4415-9EBA-7ACE19D2943B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31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5CFEA-5D80-4E2D-9F22-51D63291094C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95280" y="1628640"/>
            <a:ext cx="8353440" cy="4608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Tw Cen MT"/>
              </a:rPr>
              <a:t>Conditions de prise en charge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Observer une période de stage de 03 moi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Se rendre dans une des </a:t>
            </a:r>
            <a:r>
              <a:rPr b="0" lang="fr-FR" sz="2700" spc="-1" strike="noStrike">
                <a:solidFill>
                  <a:srgbClr val="009900"/>
                </a:solidFill>
                <a:latin typeface="Tw Cen MT"/>
              </a:rPr>
              <a:t>26</a:t>
            </a: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 formations sanitaires conventionnées (</a:t>
            </a:r>
            <a:r>
              <a:rPr b="0" lang="fr-FR" sz="2700" spc="-1" strike="noStrike">
                <a:solidFill>
                  <a:srgbClr val="009900"/>
                </a:solidFill>
                <a:latin typeface="Tw Cen MT"/>
              </a:rPr>
              <a:t>10 CSPS, 6 CM, 3 CMU, 5 CMA, l’OST et le CHU-YO</a:t>
            </a: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Accepter la prise en charge de 70%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Présenter sa </a:t>
            </a:r>
            <a:r>
              <a:rPr b="0" lang="fr-FR" sz="2700" spc="-1" strike="noStrike" u="sng">
                <a:solidFill>
                  <a:srgbClr val="f7b615"/>
                </a:solidFill>
                <a:uFillTx/>
                <a:latin typeface="Tw Cen MT"/>
                <a:hlinkClick r:id="rId2"/>
              </a:rPr>
              <a:t>carte </a:t>
            </a: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de membr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Payer un ticket modérateur de 30%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8" descr=""/>
          <p:cNvPicPr/>
          <p:nvPr/>
        </p:nvPicPr>
        <p:blipFill>
          <a:blip r:embed="rId1"/>
          <a:stretch/>
        </p:blipFill>
        <p:spPr>
          <a:xfrm>
            <a:off x="7572240" y="142920"/>
            <a:ext cx="1571760" cy="107136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85480" y="357120"/>
            <a:ext cx="8186760" cy="774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II. Conditions de d’adhésion et de prise en charge </a:t>
            </a:r>
            <a:br>
              <a:rPr sz="2800"/>
            </a:b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suite2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5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68B92-4646-4DA4-B1A0-D149DB5EA3BC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31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Espace réservé du numéro de diapositiv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CF880-C7DC-42E3-A747-9C3EFB768FAE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56760" y="1785600"/>
            <a:ext cx="8286840" cy="4403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9000"/>
          </a:bodyPr>
          <a:p>
            <a:pPr lvl="1" marL="340920" indent="-3409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100" spc="-1" strike="noStrike">
                <a:solidFill>
                  <a:srgbClr val="000000"/>
                </a:solidFill>
                <a:latin typeface="Tw Cen MT"/>
              </a:rPr>
              <a:t>Circuit de prise en charge 1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340920" indent="-3409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Présenter votre carte de membre au guichet de la formation sanitaire,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340920" indent="-3409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a prise en charge au CHU-YO est faite sur présentation d’une </a:t>
            </a:r>
            <a:r>
              <a:rPr b="0" lang="fr-FR" sz="2500" spc="-1" strike="noStrike" u="sng">
                <a:solidFill>
                  <a:srgbClr val="f7b615"/>
                </a:solidFill>
                <a:uFillTx/>
                <a:latin typeface="Tw Cen MT"/>
                <a:hlinkClick r:id="rId2"/>
              </a:rPr>
              <a:t>fiche de PEC </a:t>
            </a: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délivrée par l’UG,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340920" indent="-3409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Payer les 30% de vos frais médicaux: consultation, examen, hospitalisation…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340920" indent="-3409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En cas d’ordonnance présentez votre carte au dépôt pharmaceutique de la formation sanitaire,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340920" indent="-3409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Payer les 30% des frais d’ordonnances (MEG)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340920" indent="-3409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0920" indent="-3409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8" descr=""/>
          <p:cNvPicPr/>
          <p:nvPr/>
        </p:nvPicPr>
        <p:blipFill>
          <a:blip r:embed="rId1"/>
          <a:stretch/>
        </p:blipFill>
        <p:spPr>
          <a:xfrm>
            <a:off x="7143840" y="142920"/>
            <a:ext cx="1571400" cy="107136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II. Conditions de d’adhésion et de prise en charge suite3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0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62723-1F50-4351-A790-5423643943C6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31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Espace réservé du numéro de diapositiv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463B4-C479-4EF9-8A32-F7925E40583B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28760" y="1904760"/>
            <a:ext cx="8501040" cy="44766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7000"/>
          </a:bodyPr>
          <a:p>
            <a:pPr lvl="1" marL="334080" indent="-33408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w Cen MT"/>
              </a:rPr>
              <a:t>Circuit de prise en charge 2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lvl="1" marL="334080" indent="-33408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En cas de rupture de médicaments au dépôt,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334080" indent="-33408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Achetez vos médicaments dans une pharmacie de la place à la totalité du montant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334080" indent="-33408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Adressez une demande de remboursement au PCA de la MSU/LB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954360" indent="-238320">
              <a:spcBef>
                <a:spcPts val="53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9900"/>
                </a:solidFill>
                <a:latin typeface="Tw Cen MT"/>
              </a:rPr>
              <a:t>Pièces jointes (reçu d’achat, ordonnances)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54360" indent="-238320">
              <a:spcBef>
                <a:spcPts val="53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9900"/>
                </a:solidFill>
                <a:latin typeface="Tw Cen MT"/>
              </a:rPr>
              <a:t>Même procédure si vous n’a pas été traité en que mutualiste (en cas d’oubli de votre carte par exemple)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86200" indent="-286200">
              <a:spcBef>
                <a:spcPts val="624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8" descr=""/>
          <p:cNvPicPr/>
          <p:nvPr/>
        </p:nvPicPr>
        <p:blipFill>
          <a:blip r:embed="rId1"/>
          <a:stretch/>
        </p:blipFill>
        <p:spPr>
          <a:xfrm>
            <a:off x="7143840" y="142920"/>
            <a:ext cx="1571400" cy="107136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7696080" cy="934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775f55"/>
                </a:solidFill>
                <a:latin typeface="Tw Cen MT"/>
              </a:rPr>
              <a:t>III. Prestations prises en charge</a:t>
            </a:r>
            <a:endParaRPr b="0" lang="en-US" sz="35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5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44257-9312-479F-A850-98E15D81A1A1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31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3C23A-29A9-4AF2-8103-A766AD06ADE0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395280" y="1989000"/>
            <a:ext cx="8424720" cy="4392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lvl="1"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100" spc="-1" strike="noStrike">
                <a:solidFill>
                  <a:srgbClr val="000000"/>
                </a:solidFill>
                <a:latin typeface="Tw Cen MT"/>
              </a:rPr>
              <a:t>Dans les CSPS, CM (Les soins ambulatoires)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344520" indent="-3445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Les soins ambulatoires : consultation curative, soins infirmiers, petite chirurgie…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344520" indent="-3445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Les Médicaments essentiels génériques (M.E.G.) de la liste nationale des médicaments essentiels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344520" indent="-3445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L’accouchement normal 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344520" indent="-3445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La mise en observation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344520" indent="-3445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L’évacuation vers le centre de référence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1T11:03:26Z</dcterms:created>
  <dc:creator>NOMBRE B.</dc:creator>
  <dc:description/>
  <dc:language>en-US</dc:language>
  <cp:lastModifiedBy>Poste 12</cp:lastModifiedBy>
  <dcterms:modified xsi:type="dcterms:W3CDTF">2015-06-09T08:42:55Z</dcterms:modified>
  <cp:revision>117</cp:revision>
  <dc:subject/>
  <dc:title>Présentation MSU/LB</dc:title>
</cp:coreProperties>
</file>